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83C-8095-4470-9C96-CFF377FA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3CD-9D6D-4F61-B687-327F5C62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09C-ECDA-4482-98F3-9C54B98A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9C8-2DEB-42A8-923D-04558CA9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F10-FABB-4B05-AA68-4FBC2D02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5C53-317A-4157-A417-DBB8D83D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C8E0-C420-4C34-BB93-7D60D534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1AF0-CC0B-405A-A33F-1830938F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BCA-EC90-4882-BA53-3EB786D2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25B-F8AF-430D-AA43-7375B90D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EDE-6BEC-49E0-9239-DDF20F38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48B-0C5E-4EC6-A60E-631F5C8F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B45E-66BF-4553-8744-5817E0DB4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0000"/>
                </a:solidFill>
                <a:latin typeface="Calibri"/>
              </a:rPr>
              <a:t>C# şi platforma .NE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o-RO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rearea codului </a:t>
            </a:r>
            <a:r>
              <a:rPr b="0" lang="ro-RO" sz="3200" spc="-1" strike="noStrike">
                <a:solidFill>
                  <a:srgbClr val="ff0000"/>
                </a:solidFill>
                <a:latin typeface="Calibri"/>
              </a:rPr>
              <a:t>mașină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 pe platforma .NET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5" descr="Untitled.jpg"/>
          <p:cNvPicPr/>
          <p:nvPr/>
        </p:nvPicPr>
        <p:blipFill>
          <a:blip r:embed="rId1"/>
          <a:stretch/>
        </p:blipFill>
        <p:spPr>
          <a:xfrm>
            <a:off x="533520" y="144792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Principalele caracteristici ale arhitecturii .NE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T - rezu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ndependenţa de procesor şi de platform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dul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IL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este independent de sistemul de operare şi d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anagementul automat al memorie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 -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garbage collecto</a:t>
            </a:r>
            <a:r>
              <a:rPr b="1" i="1" lang="ro-RO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nteroperabilitatea limbajel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versele componente ale unei aplicaţii să fie scrise în limbaje diferite, suportate de către platforma .NE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curi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.NET furnizează un model comun de securitate, valabil pentru toat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limbaje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care include un mecanism unificat de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tratare a excepţiilor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ortabili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program scris pentru platforma .NET poate rula  f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ră nicio modificar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pe oricare sistem pe care platforma este instalat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umele limbajului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#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- inspirat din notaţia ♯ (</a:t>
            </a:r>
            <a:r>
              <a:rPr b="0" i="1" lang="ro-RO" sz="3200" spc="-1" strike="noStrike">
                <a:solidFill>
                  <a:srgbClr val="000000"/>
                </a:solidFill>
                <a:latin typeface="Calibri"/>
              </a:rPr>
              <a:t>diez)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in muzic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to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limbajulu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ers Hejlsber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cott Wiltamu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ter Gol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icroso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Limbajul de programare C# este intregrat în platforma Microsoft .NET Framework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ima implementare C# distribuită a fost lansată de către Microsoft ca parte a iniţiativei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.NE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în iulie 2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aracteristici</a:t>
            </a:r>
            <a:r>
              <a:rPr b="0" lang="ro-RO" sz="4400" spc="-1" strike="noStrike">
                <a:solidFill>
                  <a:srgbClr val="ff0000"/>
                </a:solidFill>
                <a:latin typeface="Calibri"/>
              </a:rPr>
              <a:t> ale limbajului C#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imbaj de programare simplu, modern, de utilitate generală, cu productivitate mare în program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ste un limbaj </a:t>
            </a:r>
            <a:r>
              <a:rPr b="0" i="1" lang="fr-FR" sz="3000" spc="-1" strike="noStrike">
                <a:solidFill>
                  <a:srgbClr val="ff0000"/>
                </a:solidFill>
                <a:latin typeface="Calibri"/>
              </a:rPr>
              <a:t>orientat pe obiect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ermite dezvoltarea de aplicaţii industriale robuste, durabi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Oferă suport complet pentru dezvoltarea de componente softwar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tionea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ză în m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utomat memoria utilizată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în strânsă legătură cu platforma .NE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295280"/>
            <a:ext cx="83059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ă suport pentru </a:t>
            </a:r>
            <a:r>
              <a:rPr b="0" i="1" lang="ro-RO" sz="3200" spc="-1" strike="noStrike">
                <a:solidFill>
                  <a:srgbClr val="000000"/>
                </a:solidFill>
                <a:latin typeface="Calibri"/>
              </a:rPr>
              <a:t>Internaționaliz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intaxa C# derivă din limbajul C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++, dar include şi influenţe din alte limbaje, m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i ales 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Portabilitate (Windows, Linux, Mac 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 C# se scriu aplicaţii pentru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isteme complexe (P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isteme dedicate (</a:t>
            </a:r>
            <a:r>
              <a:rPr b="0" i="1" lang="ro-RO" sz="3200" spc="-1" strike="noStrike">
                <a:solidFill>
                  <a:srgbClr val="000000"/>
                </a:solidFill>
                <a:latin typeface="Calibri"/>
              </a:rPr>
              <a:t>embeded systems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Limbajul C# are aplicabilitate foarte mare în cadrul sistemelor embeded, care includ dispozitive precum mp3 playere, semafoare, automate (vending machines), controlere, telefoane mobile, ceasuri digitale, s.a.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o-RO" sz="4000" spc="-1" strike="noStrike">
                <a:solidFill>
                  <a:srgbClr val="ff0000"/>
                </a:solidFill>
                <a:latin typeface="Calibri"/>
              </a:rPr>
              <a:t>.NET Fra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ste o componentă software care care permite </a:t>
            </a:r>
            <a:r>
              <a:rPr b="0" lang="ro-RO" sz="3200" spc="-1" strike="noStrike">
                <a:solidFill>
                  <a:srgbClr val="ff0000"/>
                </a:solidFill>
                <a:latin typeface="Calibri"/>
              </a:rPr>
              <a:t>dezvoltarea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şi </a:t>
            </a:r>
            <a:r>
              <a:rPr b="0" lang="ro-RO" sz="3200" spc="-1" strike="noStrike">
                <a:solidFill>
                  <a:srgbClr val="ff0000"/>
                </a:solidFill>
                <a:latin typeface="Calibri"/>
              </a:rPr>
              <a:t>rulare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aplicaţiilor de tip forme Windows şi a aplicațiilor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.NE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este constituit din două entităţ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ff0000"/>
                </a:solidFill>
                <a:latin typeface="Calibri"/>
              </a:rPr>
              <a:t>Common Language Runtime</a:t>
            </a:r>
            <a:r>
              <a:rPr b="1" lang="ro-RO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ro-RO" sz="3600" spc="-1" strike="noStrike">
                <a:solidFill>
                  <a:srgbClr val="ff0000"/>
                </a:solidFill>
                <a:latin typeface="Calibri"/>
              </a:rPr>
              <a:t>CLR</a:t>
            </a: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ff0000"/>
                </a:solidFill>
                <a:latin typeface="Calibri"/>
              </a:rPr>
              <a:t>Base Class Library</a:t>
            </a: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o-RO" sz="4000" spc="-1" strike="noStrike">
                <a:solidFill>
                  <a:srgbClr val="ff0000"/>
                </a:solidFill>
                <a:latin typeface="Calibri"/>
              </a:rPr>
              <a:t>Common Language Runtime</a:t>
            </a:r>
            <a:r>
              <a:rPr b="1" lang="ro-RO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ro-RO" sz="4000" spc="-1" strike="noStrike">
                <a:solidFill>
                  <a:srgbClr val="ff0000"/>
                </a:solidFill>
                <a:latin typeface="Calibri"/>
              </a:rPr>
              <a:t>CLR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ediul de execuţi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al programe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ulul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L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se ocupă cu managementul şi execuţia codului scris în limbaje  specific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.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L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urnizează servicii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securitatea aplicaţiil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portabilitatea aplicațiil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managementul memori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tratarea excepţiil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o-RO" sz="4000" spc="-1" strike="noStrike">
                <a:solidFill>
                  <a:srgbClr val="ff0000"/>
                </a:solidFill>
                <a:latin typeface="Calibri"/>
              </a:rPr>
              <a:t>Base Class Library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Calibri"/>
              </a:rPr>
              <a:t>Base Class Library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ro-RO" sz="3200" spc="-1" strike="noStrike">
                <a:solidFill>
                  <a:srgbClr val="000000"/>
                </a:solidFill>
                <a:latin typeface="Calibri"/>
              </a:rPr>
              <a:t>Biblioteca de Clase .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operă o arie largă a necesităţilor de program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interfaţa cu utilizatorul (U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ectarea cu bazele de date şi accesarea date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zvoltarea aplicaţiilor We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municarea în reţe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tc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Compilarea programelor pe</a:t>
            </a:r>
            <a:br>
              <a:rPr sz="4000"/>
            </a:b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.NET Fra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C# - limbaj compil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În urma compilării, rezultă un fișier </a:t>
            </a:r>
            <a:r>
              <a:rPr b="1" i="1" lang="ro-RO" sz="2700" spc="-1" strike="noStrike">
                <a:solidFill>
                  <a:srgbClr val="000000"/>
                </a:solidFill>
                <a:latin typeface="Calibri"/>
              </a:rPr>
              <a:t>assembl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700" spc="-1" strike="noStrike">
                <a:solidFill>
                  <a:srgbClr val="000000"/>
                </a:solidFill>
                <a:latin typeface="Calibri"/>
              </a:rPr>
              <a:t>assembly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conţine un tip special de cod, numit 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IL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o-RO" sz="2700" spc="-1" strike="noStrike">
                <a:solidFill>
                  <a:srgbClr val="000000"/>
                </a:solidFill>
                <a:latin typeface="Calibri"/>
              </a:rPr>
              <a:t>Common Intermediate Language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1" i="1" lang="ro-RO" sz="2700" spc="-1" strike="noStrike">
                <a:solidFill>
                  <a:srgbClr val="000000"/>
                </a:solidFill>
                <a:latin typeface="Calibri"/>
              </a:rPr>
              <a:t>Limbaj Intermediar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IL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definește un set de instrucţiuni portabile, independente de orice tip de procesor şi platform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În momentul în care un program este executat, 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LR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activează un  compilator special, numit 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JIT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o-RO" sz="2700" spc="-1" strike="noStrike">
                <a:solidFill>
                  <a:srgbClr val="000000"/>
                </a:solidFill>
                <a:latin typeface="Calibri"/>
              </a:rPr>
              <a:t>just in time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JIT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preia codul 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IL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şi îl transformă în cod executabi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6:01:23Z</dcterms:created>
  <dc:creator>Tucu</dc:creator>
  <dc:description/>
  <dc:language>en-US</dc:language>
  <cp:lastModifiedBy>ana</cp:lastModifiedBy>
  <dcterms:modified xsi:type="dcterms:W3CDTF">2016-05-16T09:08:08Z</dcterms:modified>
  <cp:revision>30</cp:revision>
  <dc:subject/>
  <dc:title>Slide 1</dc:title>
</cp:coreProperties>
</file>